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511-9C7B-4ADD-945C-FF0F6273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2D3-C29C-4F52-9ACB-A261C24E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CB6-8369-4F5A-86CE-3CBEB7CF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099-8118-4682-9CA7-5291A683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392-3236-41B3-838C-BB74ECB2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94A-1E3B-402D-99FA-1A61F899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66E-44D8-4B64-896C-B55D7C14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949-168B-4044-9619-2B1D41F5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980-3BD4-41EC-8D59-3BDEFB7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BD7-41CE-408D-A903-BBE50FA4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F75-9508-4795-889B-FA1F0DC6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BEC-3B3A-47EF-8397-71DB90E4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8766-4B92-4CB5-B400-3AE5517BBD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4114800" y="5562720"/>
            <a:ext cx="2362320" cy="1143000"/>
          </a:xfrm>
          <a:custGeom>
            <a:avLst/>
            <a:gdLst>
              <a:gd name="textAreaLeft" fmla="*/ 142560 w 2362320"/>
              <a:gd name="textAreaRight" fmla="*/ 2219760 w 236232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39"/>
          <p:cNvSpPr/>
          <p:nvPr/>
        </p:nvSpPr>
        <p:spPr>
          <a:xfrm>
            <a:off x="6172200" y="5029200"/>
            <a:ext cx="2362320" cy="1143000"/>
          </a:xfrm>
          <a:custGeom>
            <a:avLst/>
            <a:gdLst>
              <a:gd name="textAreaLeft" fmla="*/ 142560 w 2362320"/>
              <a:gd name="textAreaRight" fmla="*/ 2219760 w 236232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terials and 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60020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 a list of everything needed to do the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be specif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f needed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00 ml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A batte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14479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MCj03970480000[1]"/>
          <p:cNvPicPr/>
          <p:nvPr/>
        </p:nvPicPr>
        <p:blipFill>
          <a:blip r:embed="rId1"/>
          <a:stretch/>
        </p:blipFill>
        <p:spPr>
          <a:xfrm>
            <a:off x="609480" y="2286000"/>
            <a:ext cx="1670040" cy="1666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7391520" y="5257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73915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material girl cut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433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7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16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152280"/>
            <a:ext cx="2666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37920" y="304920"/>
            <a:ext cx="6705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ons to do the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ed list format, not a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phrases, not sentenc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 Drop ball from 1 m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NOT:  Next, take the ball, hold it at a height of 1 meter and drop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step per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5"/>
          <p:cNvSpPr/>
          <p:nvPr/>
        </p:nvSpPr>
        <p:spPr>
          <a:xfrm flipH="1">
            <a:off x="2286000" y="0"/>
            <a:ext cx="4608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MMj02347000000[1]"/>
          <p:cNvPicPr/>
          <p:nvPr/>
        </p:nvPicPr>
        <p:blipFill>
          <a:blip r:embed="rId1"/>
          <a:stretch/>
        </p:blipFill>
        <p:spPr>
          <a:xfrm>
            <a:off x="533520" y="762120"/>
            <a:ext cx="1238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228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95120" y="304920"/>
            <a:ext cx="57913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a ver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  Place the …., Snap a 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p lines between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multiple t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o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Gather material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Record da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819520" y="0"/>
            <a:ext cx="4608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50292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257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mmary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3 most important things to remember when writing procedures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2:06:40Z</dcterms:created>
  <dc:creator>Jean Kavanagh</dc:creator>
  <dc:description/>
  <dc:language>en-US</dc:language>
  <cp:lastModifiedBy>Jean Kavanagh</cp:lastModifiedBy>
  <dcterms:modified xsi:type="dcterms:W3CDTF">2009-09-25T14:06:26Z</dcterms:modified>
  <cp:revision>43</cp:revision>
  <dc:subject/>
  <dc:title>Materials and Procedures</dc:title>
</cp:coreProperties>
</file>